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A04-2455-44A1-91C3-605CF7F1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2AF-3F27-4F59-B5B3-F372F934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893-C7DC-47EA-9C22-265D38AA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B67-9EC5-40A6-A03E-85F3AF21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565-4DCA-49B9-833D-CB0D1121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960-E095-43EB-BC12-D687B59B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7D2-5FF1-41DC-BC7C-CE120E75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FC6-F211-4794-91C0-63F4257C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19F-0E75-4395-823E-AEB6408C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9E9-B450-4E5D-92A1-417977EC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9CE-0E19-46CF-9197-7D9EA237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92A-623E-47F0-A48A-460060D8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2598-20A5-4769-A426-398254F9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Max Fei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86200" y="1371600"/>
            <a:ext cx="1609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rutin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mi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de que el va a su dormitorio se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5053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pert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espertarse y soy muy perezoso y muy can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057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ar una duc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se despierto se ducho en se bano. se lava con un champ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200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erse la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de la tomar una ducha que se   ponerse la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276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r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de que el pone su ropa se mira en el espejo de si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581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inar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eina el pelo por la manana. Su pelo se ve bien pe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yun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de,  comer se desayuno en la co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3657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baja las escaleras, se sienta en la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2763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ost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es de su largo dia, se acerco a la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12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40:45Z</dcterms:created>
  <dc:creator>feinbergmax</dc:creator>
  <dc:description/>
  <dc:language>en-US</dc:language>
  <cp:lastModifiedBy>feinbergmax</cp:lastModifiedBy>
  <dcterms:modified xsi:type="dcterms:W3CDTF">2012-04-05T13:28:00Z</dcterms:modified>
  <cp:revision>5</cp:revision>
  <dc:subject/>
  <dc:title>Mi rutina diaria</dc:title>
</cp:coreProperties>
</file>